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55183"/>
        <c:axId val="97410448"/>
      </c:barChart>
      <c:catAx>
        <c:axId val="83655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10448"/>
        <c:crosses val="autoZero"/>
        <c:auto val="1"/>
        <c:lblAlgn val="ctr"/>
        <c:lblOffset val="100"/>
        <c:noMultiLvlLbl val="0"/>
      </c:catAx>
      <c:valAx>
        <c:axId val="97410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55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132-9B61-4178-9D38-A4688DEF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09E-BD1A-4AF3-8DBE-3FB7512C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4CC-6E43-4894-B0F0-2748835C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571-21DE-48AC-B305-D2F2AEFD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DB5-DCBE-4A7D-86D8-72A10071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429-A9E2-463D-98BC-604287A3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913-A391-4E8B-8265-837AEE94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57E-3C19-416F-AFA4-144A190A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3CC-290D-485E-B59B-86931B6D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721-8907-4207-9FFC-A122D192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281-4AEC-452A-9C30-D8AA27D1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26D-1085-47A6-8EB8-A6874BE9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2180C-D837-4D3E-A178-FB58AD714B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