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23364"/>
        <c:axId val="61764401"/>
      </c:barChart>
      <c:catAx>
        <c:axId val="50923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64401"/>
        <c:crosses val="autoZero"/>
        <c:auto val="1"/>
        <c:lblAlgn val="ctr"/>
        <c:lblOffset val="100"/>
        <c:noMultiLvlLbl val="0"/>
      </c:catAx>
      <c:valAx>
        <c:axId val="61764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23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F26-0248-4CB3-B992-AEFFE053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8E3-5BF6-4342-B32C-B6AFC97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B1B-6780-4E11-841A-43365E31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855-8463-4135-98B1-B6F65347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F48-57C4-4F00-83E7-EFD3BBD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56E-26A2-4D40-ACDE-1E5EE70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45D-6157-47E2-A279-3814FF23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BF9-4A3D-4917-A14A-60966AE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397-CA79-4F04-9B8A-C77B89B1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BED-8A77-4179-8127-7C636D1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A3F-26C6-4D85-93BE-CE290C8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B2A-4412-49EB-AFA9-7629A8B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0F7D-536E-47E9-BD22-84C0E365D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